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245-C6E6-494D-BE4A-204DA25A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991-EA89-4B16-9CF8-58E9ACA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F67-D6EF-4674-837F-F1916CF1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805-33A6-4D13-B498-717CC097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D98-8EFB-4033-B5D2-DB173ABD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D567-085C-4E8D-B173-DE8CBD63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C2E-34D0-4A2F-ACD7-66BF3E8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B74-1CD7-4ACC-BB69-D1837A13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2CCE-22DE-4B6A-A27B-7F8583D5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D55-7CF6-4BBC-BEC0-33262CD9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B36-7E1B-4BD9-AE10-CAEBC6E5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EE4-90FF-4EA7-B777-2E48E14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63E-FB27-4C97-B744-CA3A571ED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СЕМЬЯ  В  ПРАВОСЛАВ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Оцени свою рабо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вас удивило в содержании урок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интересного  в содержании замети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й одноклассникам вопрос, который помог бы уточнить смысл изученного матери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5592600"/>
          </a:xfrm>
          <a:prstGeom prst="rect">
            <a:avLst/>
          </a:prstGeom>
          <a:noFill/>
          <a:ln w="9360">
            <a:solidFill>
              <a:srgbClr val="0b3dc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Урок 23 </a:t>
            </a:r>
            <a:br>
              <a:rPr sz="4400"/>
            </a:br>
            <a:r>
              <a:rPr b="1" lang="ru-RU" sz="4400" spc="-1" strike="noStrike">
                <a:solidFill>
                  <a:srgbClr val="0b3dcb"/>
                </a:solidFill>
                <a:latin typeface="Arial"/>
              </a:rPr>
              <a:t>«Семья в Православии»</a:t>
            </a: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0b3dcb"/>
                </a:solidFill>
                <a:latin typeface="Arial"/>
              </a:rPr>
              <a:t>Курс ОРКСЭ (модуль» Основы православной культуры»)</a:t>
            </a: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Автор: Осадчая Ольга Олеговна, учитель ОРКСЭ ГБОУ СОШ  № 347</a:t>
            </a:r>
            <a:br>
              <a:rPr sz="3600"/>
            </a:br>
            <a:r>
              <a:rPr b="1" lang="ru-RU" sz="3600" spc="-1" strike="noStrike">
                <a:solidFill>
                  <a:srgbClr val="0b3dcb"/>
                </a:solidFill>
                <a:latin typeface="Arial"/>
              </a:rPr>
              <a:t>г. Санкт-Петер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Что такое семья? И что значит в жизни человека семь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03. ДНК\Урок откр Семья в Православии\12. Царская Семья.jpg"/>
          <p:cNvPicPr/>
          <p:nvPr/>
        </p:nvPicPr>
        <p:blipFill>
          <a:blip r:embed="rId1"/>
          <a:stretch/>
        </p:blipFill>
        <p:spPr>
          <a:xfrm>
            <a:off x="1143000" y="152280"/>
            <a:ext cx="664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28960" y="57146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чему, увидев жёлтые платочки на дубе, Винго окаменел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чему пассажиры автобуса так сопереживали  мужчине?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Что для этого человека значат родной дом и семья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01. Учебник ОПК для ДРОФЫ 10. .11\01. Уроки 1-31 от 13.11.2012\18 урок Семья в Православии\9880427_w640_h640_88824644dfa6860053de939cd8[1].jpg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562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«И благословил их Бог, и сказал им Бог: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лодитесь и размножайтесь, и наполняйте землю...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:\01. Учебник ОПК для ДРОФЫ 10. .11\01. Уроки 1-31 от 13.11.2012\18 урок Семья в Православии\01. Адам И ева.jpg"/>
          <p:cNvPicPr/>
          <p:nvPr/>
        </p:nvPicPr>
        <p:blipFill>
          <a:blip r:embed="rId1"/>
          <a:stretch/>
        </p:blipFill>
        <p:spPr>
          <a:xfrm>
            <a:off x="2286000" y="228600"/>
            <a:ext cx="40053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Святые Пётр и Феврония- покровители семьи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 б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01. Учебник ОПК для ДРОФЫ 10. .11\01. Уроки 1-31 от 13.11.2012\18 урок Семья в Православии\Пётр и Феврония.jpg"/>
          <p:cNvPicPr/>
          <p:nvPr/>
        </p:nvPicPr>
        <p:blipFill>
          <a:blip r:embed="rId1"/>
          <a:stretch/>
        </p:blipFill>
        <p:spPr>
          <a:xfrm>
            <a:off x="2728800" y="111240"/>
            <a:ext cx="32911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Выскажи предположение, почему  рядом с супругами находятся анге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62320" y="0"/>
            <a:ext cx="3828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думай, что означает название картины «Без вести пропавший»? Как ты думаешь, какое горе и какие  трудности  пережили супруги?  Как они переживают момент, изображенный на картине? Какие детали картины помогут тебе ответить на этот вопр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D:\01. Учебник ОПК для ДРОФЫ 10. .11\01. Уроки 1-31 от 13.11.2012\18 урок Семья в Православии\Андрей Горский Без вести пропавший.jpg"/>
          <p:cNvPicPr/>
          <p:nvPr/>
        </p:nvPicPr>
        <p:blipFill>
          <a:blip r:embed="rId1"/>
          <a:stretch/>
        </p:blipFill>
        <p:spPr>
          <a:xfrm>
            <a:off x="428760" y="0"/>
            <a:ext cx="8181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…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о сплю я спокойно, покуда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Она надо мною стоит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D:\01. Учебник ОПК для ДРОФЫ 10. .11\01. Уроки 1-31 от 13.11.2012\18 урок Семья в Православии\Урок откр Семья в Православии\Молитва матери.jpg"/>
          <p:cNvPicPr/>
          <p:nvPr/>
        </p:nvPicPr>
        <p:blipFill>
          <a:blip r:embed="rId1"/>
          <a:stretch/>
        </p:blipFill>
        <p:spPr>
          <a:xfrm>
            <a:off x="2666880" y="152280"/>
            <a:ext cx="37371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4:37:00Z</dcterms:created>
  <dc:creator>Ольга</dc:creator>
  <dc:description/>
  <dc:language>en-US</dc:language>
  <cp:lastModifiedBy>Olga</cp:lastModifiedBy>
  <dcterms:modified xsi:type="dcterms:W3CDTF">2014-10-23T07:09:4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